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80640" cy="124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67320" cy="40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6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Text Box 2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69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: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в наибольшей степени курсы по выбору  удовлетворили запросам пятиклассников  в области математики (геометрии) и русского языка (хотя русский язык по первой диагностике не входит в число предпочитаемых). Следует отметить тот факт, что соотношение удовлетворенных индивидуальных запросов в начале года и в конце основываются на результатах разных методик: в первом случае – это объективная методика, во втором –субъективная. Возможно, этим объясняется расхождение в цифрах. Более того, если  в начале года опросу  подлежали все уч-ся 5-х классов, то в конце года рефлексировали в данном случае только те, кто через эти курсы проше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4278240" y="10156680"/>
            <a:ext cx="328140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2419E-643F-4702-BD38-68DB672965D3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icrosoft YaHe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-14223960" y="-11796840"/>
            <a:ext cx="16635240" cy="12477960"/>
          </a:xfrm>
          <a:prstGeom prst="rect">
            <a:avLst/>
          </a:prstGeom>
          <a:ln w="0">
            <a:noFill/>
          </a:ln>
        </p:spPr>
      </p:sp>
      <p:sp>
        <p:nvSpPr>
          <p:cNvPr id="174" name="Text Box 2"/>
          <p:cNvSpPr/>
          <p:nvPr/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7757-4F20-486B-8EB8-5A3D25CDF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DA4A-EA92-40CD-B3D8-ECF7C26BFE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F400-561D-49DF-BF0C-439987184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6114-814E-4EEB-A0EC-FE18701468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32736-93DA-4C01-BEF1-860C8531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AF6CA-F981-4A37-A752-93B80DA73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992392-52A6-4E46-80B3-AC4310A7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8DC4B-E8BA-4019-A27A-67DE7492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053B5-9568-4B88-ABD3-F1B6D3FF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546F6-0D23-4353-A8EC-5F02E82A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93F1CF-F3C4-4884-ACE6-33D2EDF9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F39B8-9EBA-4C1F-B6F1-993DD1934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A01F6-A650-4D43-A2C5-C17C6C25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64E9C-B7A0-4D65-8626-19B2D82F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E6700-43AF-40BB-8208-229206AA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9CED6-C3C5-4F73-8F22-72601FD89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280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8760" y="159984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280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8760" y="3953880"/>
            <a:ext cx="264348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A9815-2ECB-4E42-A926-18587BCD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09DFB-B10C-4B64-AF8D-6732A85BF9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23559-0EA2-4760-8475-574242284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60F6-468E-44F8-86E9-C97CFAF420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0520" cy="52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251B-C5BE-4BDA-87E9-FF5B060F6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0826A-EAAF-449C-B5CC-ACD37C934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160" y="395388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CA4D-377B-42F7-9F46-5B7CA884E3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160" y="1599840"/>
            <a:ext cx="400644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53880"/>
            <a:ext cx="8210520" cy="21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8773-CAD3-46F3-B90D-F956C23866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052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1052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240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861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14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FCC59-E92A-414D-B010-697010225EA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22000"/>
            <a:ext cx="652464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31520"/>
            <a:ext cx="8223120" cy="39704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6960" y="6246360"/>
            <a:ext cx="28926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6320" y="6246360"/>
            <a:ext cx="2124000" cy="4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8A9F9-D9E4-4A1C-AB72-625224D90B0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360360" y="720720"/>
            <a:ext cx="83185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«Формирование мотивационного компонента готовности к профессиональному самоопределению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60360" y="4608360"/>
            <a:ext cx="83185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Бурачкова Ольга Николаевн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6600"/>
                </a:solidFill>
                <a:latin typeface="Times New Roman"/>
              </a:rPr>
              <a:t>заместитель директора по воспитательной работе МАОУ «Юго-Камская средняя школа Пермского район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"/>
          <p:cNvSpPr/>
          <p:nvPr/>
        </p:nvSpPr>
        <p:spPr>
          <a:xfrm>
            <a:off x="179280" y="260280"/>
            <a:ext cx="87854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mbria"/>
              </a:rPr>
              <a:t>Оценка предметного предпочтения  внеурочной деятельности обучающихся старшей шко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Класс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mbria"/>
              </a:rPr>
              <a:t> 11 «А»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  классный руководитель 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Белова О. Л.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rcRect l="2001" t="0" r="2309" b="9512"/>
          <a:stretch/>
        </p:blipFill>
        <p:spPr>
          <a:xfrm>
            <a:off x="-1440" y="1400040"/>
            <a:ext cx="9145440" cy="3407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"/>
          <p:cNvPicPr/>
          <p:nvPr/>
        </p:nvPicPr>
        <p:blipFill>
          <a:blip r:embed="rId2"/>
          <a:srcRect l="0" t="0" r="0" b="35696"/>
          <a:stretch/>
        </p:blipFill>
        <p:spPr>
          <a:xfrm>
            <a:off x="0" y="4807080"/>
            <a:ext cx="914400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9640" y="286920"/>
            <a:ext cx="65991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Итоги реализации проек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формирована интегрированная модель учебного плана, внеурочной деятельности и дополнительного образования через курсы по интересам и систему воспитательной деятельности на параллел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 мониторинг индивидуальной занятости детей во внеурочной деятельности по направлениям «Курсы-мероприятия-система дополнительного образования»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иагностические материалы по выявлению предметного предпочтения и умения учиться  каждого ученика при переходе с основного уровня образования на средний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пределена  диагностика «Мой выбор» для определения индивидуального выбора предметной области и индивидуальной сферы деятельности.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Механизм обеспечения выбора каждым  учеником направления  внеурочной деятельности, а в последующем предметной (образовательной) области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800" indent="-33480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4800"/>
                <a:tab algn="l" pos="439560"/>
                <a:tab algn="l" pos="888840"/>
                <a:tab algn="l" pos="1338120"/>
                <a:tab algn="l" pos="1787400"/>
                <a:tab algn="l" pos="2236680"/>
                <a:tab algn="l" pos="2685960"/>
                <a:tab algn="l" pos="3135240"/>
                <a:tab algn="l" pos="3584520"/>
                <a:tab algn="l" pos="4033800"/>
                <a:tab algn="l" pos="4483080"/>
                <a:tab algn="l" pos="4932360"/>
                <a:tab algn="l" pos="5381640"/>
                <a:tab algn="l" pos="5830920"/>
                <a:tab algn="l" pos="6280200"/>
                <a:tab algn="l" pos="6729480"/>
                <a:tab algn="l" pos="7178760"/>
                <a:tab algn="l" pos="7628040"/>
                <a:tab algn="l" pos="8077320"/>
                <a:tab algn="l" pos="8526600"/>
                <a:tab algn="l" pos="89758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работано и апробировано 46 программ ВД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380880" y="30492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Личностно-ориентированная   модель внеурочной деятельно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990720" y="3429000"/>
            <a:ext cx="2133360" cy="60948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зовая мод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057400" y="4724280"/>
            <a:ext cx="2286000" cy="6858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граммы воспитани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социализ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581280" y="3352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о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разовани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57400" y="2209680"/>
            <a:ext cx="2133720" cy="609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пл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 flipH="1">
            <a:off x="3105000" y="3657600"/>
            <a:ext cx="495360" cy="14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2514600" y="2971800"/>
            <a:ext cx="144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 flipV="1">
            <a:off x="2514600" y="4247640"/>
            <a:ext cx="1440" cy="419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4495680" y="441972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10800000">
            <a:off x="1295280" y="260964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 rot="16200000">
            <a:off x="4438800" y="2552400"/>
            <a:ext cx="533160" cy="609480"/>
          </a:xfrm>
          <a:custGeom>
            <a:avLst/>
            <a:gdLst>
              <a:gd name="textAreaLeft" fmla="*/ 75600 w 533160"/>
              <a:gd name="textAreaRight" fmla="*/ 456840 w 53316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2"/>
          <p:cNvSpPr/>
          <p:nvPr/>
        </p:nvSpPr>
        <p:spPr>
          <a:xfrm rot="5400000">
            <a:off x="1275840" y="4476600"/>
            <a:ext cx="533520" cy="609480"/>
          </a:xfrm>
          <a:custGeom>
            <a:avLst/>
            <a:gdLst>
              <a:gd name="textAreaLeft" fmla="*/ 75600 w 533520"/>
              <a:gd name="textAreaRight" fmla="*/ 457200 w 533520"/>
              <a:gd name="textAreaTop" fmla="*/ 351000 h 609480"/>
              <a:gd name="textAreaBottom" fmla="*/ 522000 h 609480"/>
            </a:gdLst>
            <a:ahLst/>
            <a:rect l="textAreaLeft" t="textAreaTop" r="textAreaRight" b="textAreaBottom"/>
            <a:pathLst>
              <a:path w="21600" h="21600">
                <a:moveTo>
                  <a:pt x="15470" y="0"/>
                </a:moveTo>
                <a:lnTo>
                  <a:pt x="9340" y="6200"/>
                </a:lnTo>
                <a:lnTo>
                  <a:pt x="12440" y="6200"/>
                </a:lnTo>
                <a:lnTo>
                  <a:pt x="12440" y="12440"/>
                </a:lnTo>
                <a:lnTo>
                  <a:pt x="6200" y="12440"/>
                </a:lnTo>
                <a:lnTo>
                  <a:pt x="6200" y="9340"/>
                </a:lnTo>
                <a:lnTo>
                  <a:pt x="0" y="15470"/>
                </a:lnTo>
                <a:lnTo>
                  <a:pt x="6200" y="21600"/>
                </a:lnTo>
                <a:lnTo>
                  <a:pt x="6200" y="18500"/>
                </a:lnTo>
                <a:lnTo>
                  <a:pt x="18500" y="18500"/>
                </a:lnTo>
                <a:lnTo>
                  <a:pt x="18500" y="6200"/>
                </a:lnTo>
                <a:lnTo>
                  <a:pt x="21600" y="6200"/>
                </a:lnTo>
                <a:lnTo>
                  <a:pt x="15470" y="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13"/>
          <p:cNvSpPr/>
          <p:nvPr/>
        </p:nvSpPr>
        <p:spPr>
          <a:xfrm>
            <a:off x="6553080" y="2362320"/>
            <a:ext cx="2438640" cy="2361960"/>
          </a:xfrm>
          <a:prstGeom prst="ellipse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дивидуальн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аю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4"/>
          <p:cNvSpPr/>
          <p:nvPr/>
        </p:nvSpPr>
        <p:spPr>
          <a:xfrm>
            <a:off x="5791320" y="3429000"/>
            <a:ext cx="761760" cy="38088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5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6 клас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8 ч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интересам 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дивидуальные проб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 основным вид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уб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6-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ъединение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параллели по интереса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рабочие группы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в т.ч. в по предметны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ластям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внеурочной деятель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380880" y="-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хема обеспечения выбор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990720" y="1828800"/>
            <a:ext cx="2590560" cy="45720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7-9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181480" y="1828800"/>
            <a:ext cx="2743200" cy="45720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10-11 клас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90720" y="2438280"/>
            <a:ext cx="2590560" cy="1752840"/>
          </a:xfrm>
          <a:prstGeom prst="rect">
            <a:avLst/>
          </a:prstGeom>
          <a:solidFill>
            <a:srgbClr val="9999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3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ая деятельность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5181480" y="2438280"/>
            <a:ext cx="2743200" cy="175284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урсы по выбо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32 час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филь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3657600" y="2590920"/>
            <a:ext cx="1447920" cy="1676160"/>
          </a:xfrm>
          <a:custGeom>
            <a:avLst/>
            <a:gdLst>
              <a:gd name="textAreaLeft" fmla="*/ 361800 w 1447920"/>
              <a:gd name="textAreaRight" fmla="*/ 1086120 w 144792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прое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990720" y="4419720"/>
            <a:ext cx="6933960" cy="106668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сихологический мониторинг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следования личностных интересов и склонностей учащихся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их изменений во времени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ая книжка учета выбора и результатов деятельности учащихс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533520" y="5715000"/>
            <a:ext cx="7924680" cy="990720"/>
          </a:xfrm>
          <a:prstGeom prst="rect">
            <a:avLst/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условий и ресурсо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циальное пространство, дополнительное образование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дительская общественнос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685800" y="1066680"/>
            <a:ext cx="7543800" cy="533520"/>
          </a:xfrm>
          <a:prstGeom prst="rect">
            <a:avLst/>
          </a:prstGeom>
          <a:gradFill rotWithShape="0">
            <a:gsLst>
              <a:gs pos="0">
                <a:srgbClr val="755e75"/>
              </a:gs>
              <a:gs pos="100000">
                <a:srgbClr val="ffccff"/>
              </a:gs>
            </a:gsLst>
            <a:lin ang="135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ые маршру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4114800" y="548640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19051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2"/>
          <p:cNvSpPr/>
          <p:nvPr/>
        </p:nvSpPr>
        <p:spPr>
          <a:xfrm>
            <a:off x="6248520" y="1600200"/>
            <a:ext cx="5331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22096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6553080" y="2286000"/>
            <a:ext cx="1800" cy="152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2133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6705720" y="4191120"/>
            <a:ext cx="144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б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295280"/>
          <a:ext cx="8215200" cy="5423040"/>
        </p:xfrm>
        <a:graphic>
          <a:graphicData uri="http://schemas.openxmlformats.org/drawingml/2006/table">
            <a:tbl>
              <a:tblPr/>
              <a:tblGrid>
                <a:gridCol w="1685880"/>
                <a:gridCol w="3036960"/>
                <a:gridCol w="3492360"/>
              </a:tblGrid>
              <a:tr h="19256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араллель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о часов для формирования индивидуального маршрут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число времени, использованное в индивидуальных маршрутах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49860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500040"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612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5 (1 полугодие)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60360" y="-144360"/>
            <a:ext cx="842328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одержание мотивационного п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792000"/>
            <a:ext cx="854388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Активные формы, технологии (проекты, web-квесты, реальные квесты, дебаты, круглые столы, научно-практические конференции и т.д.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Бально-рейтинговая оценк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«Ученик года», «Класс года», «Объединение года», «Учитель года» - стимулирование деятельности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Привлечение «интересных» людей, тьюторская позиция педагог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чет желаний обучающихся, родителей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словия среды (материальные, информационные, психологический комфорт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Уроки самоопределения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- Курс «Атлас профессий»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менты оценивания осознанного выб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457200" y="936720"/>
          <a:ext cx="8213760" cy="5400720"/>
        </p:xfrm>
        <a:graphic>
          <a:graphicData uri="http://schemas.openxmlformats.org/drawingml/2006/table">
            <a:tbl>
              <a:tblPr/>
              <a:tblGrid>
                <a:gridCol w="4575240"/>
                <a:gridCol w="3638520"/>
              </a:tblGrid>
              <a:tr h="456480"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ъективированны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367524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Среда-метафора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ика «Мотивы изучения предметов»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агностика проф.интересов и склонностей, Г. Резапкин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 «Перекресток» (Н.С. Пряжников, Е.Ю.Пряжникова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Предметное предпочтение ВД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Недельная занятость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блю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мооцен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тод экспертных оценок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Опросники (авторские анкеты):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- Удовлетворенность инд.запросов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Segoe UI"/>
                        </a:rPr>
                        <a:t>ЗАЧЕМ?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12880"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дагог-психолог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меститель директора по В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192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ный руководител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учающийс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56480">
                <a:tc gridSpan="2">
                  <a:txBody>
                    <a:bodyPr lIns="90000" rIns="90000" tIns="6192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чная книжка учета выбор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457200" y="936720"/>
          <a:ext cx="8213760" cy="5610240"/>
        </p:xfrm>
        <a:graphic>
          <a:graphicData uri="http://schemas.openxmlformats.org/drawingml/2006/table">
            <a:tbl>
              <a:tblPr/>
              <a:tblGrid>
                <a:gridCol w="2297160"/>
                <a:gridCol w="2197080"/>
                <a:gridCol w="1924200"/>
                <a:gridCol w="1795320"/>
              </a:tblGrid>
              <a:tr h="1161360">
                <a:tc>
                  <a:txBody>
                    <a:bodyPr lIns="90000" rIns="90000" tIns="62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рс по выбор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795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ко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мет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ачало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/ % инд. запросов (конец  года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оя родословна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формат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2064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Флора и фауна земли Пермской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, эк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/3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мейные праздни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Театр музыки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ы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/4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ингвистические игры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2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36540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Музыка ветра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/4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/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2028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Читать себя как книгу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сихология, литерату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2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619560"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Наглядная  геометрия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1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 marL="216000" indent="-216000" algn="ctr"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1960" cy="6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овлетворенность индивидуальных запросов (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e7cb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стоявшийся выбор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(9 классы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539640" y="1844640"/>
          <a:ext cx="8231400" cy="3668760"/>
        </p:xfrm>
        <a:graphic>
          <a:graphicData uri="http://schemas.openxmlformats.org/drawingml/2006/table">
            <a:tbl>
              <a:tblPr/>
              <a:tblGrid>
                <a:gridCol w="2743200"/>
                <a:gridCol w="2745000"/>
                <a:gridCol w="2743200"/>
              </a:tblGrid>
              <a:tr h="887400">
                <a:tc>
                  <a:txBody>
                    <a:bodyPr lIns="90000" rIns="90000" tIns="15228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Выбор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ел.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%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9478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полность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7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4608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стоялся частичн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887400">
                <a:tc>
                  <a:txBody>
                    <a:bodyPr lIns="90000" rIns="90000" tIns="114120" bIns="46800" anchor="t">
                      <a:noAutofit/>
                    </a:bodyPr>
                    <a:p>
                      <a:pPr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 состоялс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162000" bIns="46800" anchor="t">
                      <a:noAutofit/>
                    </a:bodyPr>
                    <a:p>
                      <a:pPr algn="ctr">
                        <a:lnSpc>
                          <a:spcPct val="8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ремина Инга Анатольевна</dc:creator>
  <dc:description/>
  <dc:language>en-US</dc:language>
  <cp:lastModifiedBy>Dremina-IA</cp:lastModifiedBy>
  <cp:lastPrinted>2019-02-06T06:25:41Z</cp:lastPrinted>
  <dcterms:modified xsi:type="dcterms:W3CDTF">2020-03-27T12:11:3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